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ct" ContentType="image/x-pict"/>
  <Override PartName="/ppt/media/image5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7E13-A661-4050-A043-2E4B7474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C7B2-73BB-4176-8B63-78A89AA7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D1BC-8319-4879-B024-235D7A8B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2F9A-7610-474A-8FFA-ACE5FAF3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0275-DAE5-4CC3-A937-2F69B482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C01A-A8E7-4CB1-9F0F-B6FF14DA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B3D6-A84C-46B8-A7B6-95538D79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0458-9250-4680-8142-3CE76294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18F4-C9FF-478B-AE8F-5F9A82E3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8C25-CCE7-4056-B031-3FB0570C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25E7-E4FD-416C-93DB-CD4AD21A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7AA4-FF74-44CC-8CC1-354340E2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DDAE-C9B0-405A-BFC5-D7F9AE1E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4BB2-62C1-4E0E-BA5C-3B2C0704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EAE6-01A7-413A-963D-85C2BADD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F373-E083-4975-9EDA-C89B1A66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C5E6-B226-4DB2-B855-F761A50D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AA74-EF73-4B07-B69B-91ACFD28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A79E-ED6F-4BAC-BB12-0516AA75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1808-5576-400C-BD4E-F8417D22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A37-382C-4FDC-A1BA-AA7B7285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115E-144D-4E3C-AC60-D9B26700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0914-9992-4D82-9722-5E3645D9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D4EB-A7A5-4C7E-AC16-39920C1F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219320" y="1600200"/>
            <a:ext cx="5925960" cy="9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0561-F8E7-4355-8984-7F1DB2451534}" type="slidenum"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04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2DE2-292C-4C95-B091-0CE0ADB6F214}" type="slidenum"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7277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72776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72776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6thPeriodImoivesignup.doc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3720" y="838080"/>
            <a:ext cx="48765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iMovie In the Classroom: </a:t>
            </a:r>
            <a:r>
              <a:rPr b="1" lang="en-US" sz="3200" spc="-1" strike="noStrike">
                <a:solidFill>
                  <a:srgbClr val="272776"/>
                </a:solidFill>
                <a:latin typeface="Arial"/>
              </a:rPr>
              <a:t>Student made movies using iMovie software.</a:t>
            </a:r>
            <a:endParaRPr b="1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2640" y="36576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2776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2776"/>
                </a:solidFill>
                <a:latin typeface="Arial"/>
              </a:rPr>
              <a:t>My “how-to” example on designing your own lesson:</a:t>
            </a:r>
            <a:endParaRPr b="0" lang="en-US" sz="36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What did I learn?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Students required very little training on a seemingly complicated program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I learned how to use iMovie in two hours.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Setting a benchmark timetable made the three week project manageable for students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Specific content requirements and vague project formats allowed students to express creativity in the movies while still conveying the information that I needed them to tell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Next time I will space out the project and have more work done outside of class (the research)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How can you incorporate movies into your class?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90720" y="3276360"/>
            <a:ext cx="73152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ind a few other teachers near you and share your ideas and thoughts!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References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92280" y="1981080"/>
          <a:ext cx="7759440" cy="403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981080"/>
                    <a:ext cx="775944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Why Use Movies?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It’s the classic research report- with a twist!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Allows many options for how information can be conveyed to the audience.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Pictures and video clips from reference source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Students can record themselves in pictures and video clips, starring them!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Student can record voiceover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Written subtitles and text included with the video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Works Cited info becomes scrolling credits!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Why Use Movies?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Increased versatility in lesson design: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Movies can serve as an introduction or sponge activity to new content material. 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Can allow for application and synthesis of course material previously learned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The basic project design can be adapted to many different content areas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Designing your lesson:</a:t>
            </a:r>
            <a:br>
              <a:rPr sz="4400"/>
            </a:b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Selecting the content/anchors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Remember that movies tell a story, select an anchor(s) that could be learned by storytelling.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Use your assessment anchors to determine what information your students need to include in their movies.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I started with a grading rubric to outline point values and required information students needed to have in their movies.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My Movie Making Plan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85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Movie topics focus on natural disasters.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The project was introduced more like a standard research project with a twist!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I gave students the introductory explanation of the project and clearly stated my expectations of the final product. I really emphasized content requirements the video had to contain.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tudents selected a disaster that most interested them and posted it on the </a:t>
            </a:r>
            <a:r>
              <a:rPr b="0" lang="en-US" sz="3200" spc="-1" strike="noStrike" u="sng">
                <a:solidFill>
                  <a:srgbClr val="7f97c2"/>
                </a:solidFill>
                <a:uFillTx/>
                <a:latin typeface="Arial"/>
                <a:hlinkClick r:id="rId1"/>
              </a:rPr>
              <a:t>interactive whiteboard</a:t>
            </a: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. (Due after day 1)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Several days were devoted to have students research their natural disaster topic. They found information, pictures or video to use in their video. (days 2-5)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0" y="68544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Tip: Simplify note taking by using an excel spreadsheet with three columns (information, pictures, and citations) that information is just cut and pasted in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38080" y="4572000"/>
          <a:ext cx="7543800" cy="137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72000"/>
                    <a:ext cx="7543800" cy="13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Thinking about video production: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tudents compiled their research materials into a storyboard plan.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I used blank PowerPoint 6-slide/page printout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toryboards and a script of their spoken or recorded segments were collected after the 6th work day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Both were checked before they could start video production.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Lights, camera, ACTION!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With very little actual training students were became directors of their own movies (Day 6-10)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Recording themselves in video clips (video cameras, or build-in laptop cameras)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Editing pictures, video clip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Making and editing voiceovers, background music, and build-in sound effects.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Completed movies are compressed into quick-time files and loaded onto a USB portable hard drive for submission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Sample of student work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pic>
        <p:nvPicPr>
          <p:cNvPr id="104" name="Macintosh HD:Users:jshiffer:Desktop:SAN FRAN 1906.mov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23:43:56Z</dcterms:created>
  <dc:creator>PA Department of Education</dc:creator>
  <dc:description/>
  <dc:language>en-US</dc:language>
  <cp:lastModifiedBy>PA Department of Education</cp:lastModifiedBy>
  <dcterms:modified xsi:type="dcterms:W3CDTF">2008-03-04T03:22:12Z</dcterms:modified>
  <cp:revision>11</cp:revision>
  <dc:subject/>
  <dc:title>PowerPoint Presentation</dc:title>
</cp:coreProperties>
</file>